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6116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608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1440" y="9000"/>
            <a:ext cx="2930400" cy="443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30760" y="9000"/>
            <a:ext cx="2930400" cy="443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-1440" y="8996400"/>
            <a:ext cx="2930400" cy="442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3830760" y="8996400"/>
            <a:ext cx="2930400" cy="442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fld id="{781B5E24-C12C-4381-97B1-C49471D49CAB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900000" y="4490640"/>
            <a:ext cx="4959360" cy="39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Img"/>
          </p:nvPr>
        </p:nvSpPr>
        <p:spPr>
          <a:xfrm>
            <a:off x="1176120" y="828720"/>
            <a:ext cx="4406760" cy="330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79360" y="826920"/>
            <a:ext cx="4402440" cy="330228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g. LBO:   60% secured bank finance, 30% mezzanine, 10% equity , implies ‘gearing’ or ‘leverage’  of 90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79360" y="826920"/>
            <a:ext cx="4402440" cy="330228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Thai Baht Structured Note: (Morgan Stanley DPG)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pon payments in USD, high coupon of 11%.  But principal repayment is reduced, if Baht is devalued relative to a basket of currencies (including the USD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 rate curve (gives path of expected inflation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5,    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0,     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ldImg"/>
          </p:nvPr>
        </p:nvSpPr>
        <p:spPr>
          <a:xfrm>
            <a:off x="1179360" y="83016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79360" y="826920"/>
            <a:ext cx="4402440" cy="330228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Using data on 11 other countries (with continuous trading 1926-96) the US exceeded the median return 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se counties by about 1.5% (in nominal term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 ‘US market risk premium by 1.5%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Source Brealey &amp; Myers 6th ed p156-16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2AC386-F776-4A73-89B1-FBB1DE0892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86360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3997440"/>
            <a:ext cx="86360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EF1E2-8F1A-41F7-A6D8-8EB7E8A63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88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D07D-3F7F-4EFE-862C-A8724C8DD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9720" y="139716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0040" y="139716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399744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9720" y="399744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0040" y="399744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577F9-3DBE-40C6-B3D3-D3A7ED08ED9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1397160"/>
            <a:ext cx="8636040" cy="49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9F926-F72E-4DCE-98FA-7DBC95FC0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863604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2493D-B2F9-46EE-8DF7-616D4FCF7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624255-C9B3-49EE-B1BE-1FB93861D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63E040-BB3B-469A-8995-1C2CD01DB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000" y="348840"/>
            <a:ext cx="802620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B3EFFB-EB20-4545-A9E7-C87C3819F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A533A7-1092-4266-8A65-54C831824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88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264617-E48A-4370-93E2-76661DF18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3997440"/>
            <a:ext cx="86360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4F26C-C5F7-4CA3-A4AC-D83D2C858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48360" y="6513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9FB62CA-0209-4A91-A80D-23217F0B37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329760" y="1397160"/>
            <a:ext cx="8636040" cy="497808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7920" y="2362320"/>
          <a:ext cx="6858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858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4920" y="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11/9/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6400" y="382680"/>
            <a:ext cx="83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LECTURE: MARKETS,FIRMS AND INVES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914400" y="9907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B05CE-864F-477F-9DFF-D9F67E2BDC8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26920" y="62064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ney market assets (maturity &lt; 1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bank deposits/loans, in  Eurodollars/Yen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TC(non- marketabl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Commercial Bills, Certificates of Deposit CD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(also sold in  secondary mark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Have a known  return (=yield/interest rate), if hel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824400" y="50760"/>
            <a:ext cx="58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/Lending Funds:  Short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79840" y="10152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/Lending Funds: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69228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Government Bond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-bonds/Notes (UK = gilts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long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usually ‘fixed interest’ ($ coupon) pay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lain vanilla or ‘straight’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rporate bonds, ( including ‘preference shares’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entitled to cash payments before equity holder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estrictive covenants (e.g. cannot sell buildin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Floating Rate Notes,  F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Convert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Callable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1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1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826920" y="765000"/>
            <a:ext cx="81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ar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quities, common stock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riable payments (= dividen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st to be pa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ssuing Sh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O (‘going to market’ - e.g. LastMinute.com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ghts Issue - additional shares to existing equity hol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Issue - ‘free shares’, no new fund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quity War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4080" y="17928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 Funds: Shares/Equ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4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5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38080" y="69228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Junk/High-yield/ low-grade / BO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.e.  below BBB 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ordinated debt (last in interest payment and ‘debt-que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nagement buy-outs MBO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ually highly leveraged buy-outs LBO’s (e.g. buy-out of RJR Nabisc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stile takeov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quirer retains all voting rights in the new compa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ten h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quity kick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tached therefore often issued by ‘young’ fast growing firms  (media, cable T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880" y="10332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 Funds: Mezzanine F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55360" y="76320"/>
            <a:ext cx="36450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MARKE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66816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oreign Exchan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ot market for foreign curr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rade finance + specu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the above are known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cas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” 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spot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rke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for immediate delivery of the “asset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erivatives Marke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s \ futures (delivery in the fu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ons   (delivery is “optional”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aps     ( eg swap USD payments for FRF payment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d in ‘financial engineering’ / ‘structured financ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069360" y="230976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low of Fu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461960" y="1447920"/>
            <a:ext cx="70725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ntique Olv (W1)"/>
              </a:rPr>
              <a:t>Primary Lenders</a:t>
            </a:r>
            <a:r>
              <a:rPr b="1" lang="en-US" sz="2800" spc="-1" strike="noStrike">
                <a:solidFill>
                  <a:srgbClr val="ffffff"/>
                </a:solidFill>
                <a:latin typeface="Antique Olv (W1)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tique Olv (W1)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Personal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ntique Olv (W1)"/>
              </a:rPr>
              <a:t>Primary Borrowers</a:t>
            </a:r>
            <a:r>
              <a:rPr b="1" lang="en-US" sz="2800" spc="-1" strike="noStrike">
                <a:solidFill>
                  <a:srgbClr val="ffffff"/>
                </a:solidFill>
                <a:latin typeface="Antique Olv (W1)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Companies and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0160" y="2286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nders and Borr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813240" y="17784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ntique Olv (W1)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5640" y="765000"/>
            <a:ext cx="838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If taxes are insufficient to cover expendi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ntique Olv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Budget Deficit = G - T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         ( ‘PSBR’ in the UK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ntique Olv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Financed by: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printing mone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issuing deb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ing more debt can raise interest rates and may ultimately lead to debt crises (e.g. Latin American debt crises 1980s,  Russian bond defaults July 9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ntique Olv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EMU deprives you of “printing money” or setting your own interest rate but it does not stop you issuing your own bonds (denominated in Eu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144520" y="1644480"/>
            <a:ext cx="56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RKETS and DEAL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6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969840" y="2719440"/>
          <a:ext cx="2960640" cy="36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2719440"/>
                    <a:ext cx="29606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016600" y="3146400"/>
          <a:ext cx="3657600" cy="30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6600" y="3146400"/>
                    <a:ext cx="365760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839880" y="100080"/>
            <a:ext cx="35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ypes Of Trans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28800" y="69228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ash Accou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y “up fron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argin Accou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y a proportion, borrow the 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ing “long”   (=buy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ing “short”  (=sell what you ow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hort S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purchase Agreeme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Rep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0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0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26828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Financial Asset:Lending And Borrowing F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of F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s And Dea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And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 Rates and the Yield Cu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Yields, Prices, Returns and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25600"/>
            <a:ext cx="38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838080" y="19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63640" y="7650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rbitrageu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ep price =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fundamental valu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Hedgers: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ffset risks that they currently 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peculator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ke "open" positions to make pro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peculators provide funds for hed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3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4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41680" y="100080"/>
            <a:ext cx="3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rket  Maker (M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84160" y="692280"/>
            <a:ext cx="85122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M  Buys "low" at Bid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M  Sells "high" at Offer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ouch”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ference between highest bid and lowest offer 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EAQ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st bid and ask/offer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played as the "yellow strip pr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857160" y="74772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al “prices” (e.g. stock/bond) prices respond to chang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iews about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s”, - look forward! (The past is only relevant in that it may help to predict the fu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nce even if everyone acts “rationally”, we expect  (Stock) market prices to be volatile as the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mmediate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“embody” changing views abo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rospects for compan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is referred to as “news”, that is “new information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ut are markets “excessively volatile”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nspan/Shiller,   “Irrational (Over)-Exuberance”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bbles, crashes, noise tra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62560" y="100080"/>
            <a:ext cx="43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ices Respond To ‘New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80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0" y="0"/>
            <a:ext cx="826920" cy="6854760"/>
            <a:chOff x="0" y="0"/>
            <a:chExt cx="826920" cy="6854760"/>
          </a:xfrm>
        </p:grpSpPr>
        <p:sp>
          <p:nvSpPr>
            <p:cNvPr id="811" name=""/>
            <p:cNvSpPr/>
            <p:nvPr/>
          </p:nvSpPr>
          <p:spPr>
            <a:xfrm>
              <a:off x="0" y="0"/>
              <a:ext cx="82692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57960" y="163440"/>
              <a:ext cx="115920" cy="6550200"/>
              <a:chOff x="57960" y="163440"/>
              <a:chExt cx="115920" cy="6550200"/>
            </a:xfrm>
          </p:grpSpPr>
          <p:sp>
            <p:nvSpPr>
              <p:cNvPr id="813" name=""/>
              <p:cNvSpPr/>
              <p:nvPr/>
            </p:nvSpPr>
            <p:spPr>
              <a:xfrm>
                <a:off x="57960" y="175428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7960" y="198432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960" y="221148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7960" y="244152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960" y="2671920"/>
                <a:ext cx="11592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7960" y="289872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960" y="312912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960" y="3359160"/>
                <a:ext cx="11592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7960" y="358632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7960" y="381636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7960" y="4046400"/>
                <a:ext cx="11592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7960" y="427212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7960" y="450216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7960" y="472932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960" y="495936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7960" y="518940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960" y="541656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7960" y="564660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7960" y="587700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7960" y="610380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960" y="633420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960" y="656280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7960" y="163440"/>
                <a:ext cx="11592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7960" y="39060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960" y="620640"/>
                <a:ext cx="11592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7960" y="84924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7960" y="107640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7960" y="130644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7960" y="153684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2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2649240" y="235584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turns And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914400" y="9907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846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848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841320" y="7632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READS and Y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26920" y="692280"/>
            <a:ext cx="83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re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difference between two “pric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id-Ask Spre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 mak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ys at the “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” (eg $100 )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l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the “offer” or “ask” (eg. $102)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id-ask spread above = $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Yiel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.g. 10 % p.a.) on an interest bearing as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: T-Bill, T-Bond, Eurodollar depo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x. measure of the “return” on your investmen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you hold the asset to 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re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n interest rates = Long rate(10yr) - short rate(3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8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8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3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833400" y="100080"/>
            <a:ext cx="54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ices and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34920" y="1628640"/>
            <a:ext cx="82090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R = Capital Gain + Running (Dividend) Y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a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00   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10    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R = 10% + 5% = 1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00   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10     Coupon =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Y = 10% + 2% = 12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66680" y="2637000"/>
            <a:ext cx="76964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066680" y="4869000"/>
            <a:ext cx="76964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2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2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1" name=""/>
          <p:cNvSpPr/>
          <p:nvPr/>
        </p:nvSpPr>
        <p:spPr>
          <a:xfrm>
            <a:off x="838080" y="6620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lding Period Return (Yield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“return” when the asset is sold prior to 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63640" y="90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minal vs. Real Returns (Yields): Risk-free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91440" y="84132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ree (safe) Asset =  T-Bills or Bank depo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6920" y="1692360"/>
            <a:ext cx="864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sher Equ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mi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 risk free  return, r = real return + expected inf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al retu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reward for ‘waiting’ (3% p.a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increase in number of Harrods Hampers you can buy at the end of the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.g. current 1-yea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ot 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.5%, implies expected inflation over the coming year = 2.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ed bonds earn a known real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838080" y="692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l “Risky” Retur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Risk free rate +  Risk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p = risk 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‘market   risk’ + liquidity  risk + default 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can measure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toric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ex-post) risk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Av. Return = 12% p.a.   Av. r = 4% p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-po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equity) risk premium = 8% p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9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9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838080" y="76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minal “RISKY” Return (e.g. on EQU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2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8" name=""/>
          <p:cNvSpPr/>
          <p:nvPr/>
        </p:nvSpPr>
        <p:spPr>
          <a:xfrm>
            <a:off x="2627280" y="2057400"/>
            <a:ext cx="446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rward Rat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ield Cu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86960" y="76320"/>
            <a:ext cx="8356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f Forward R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26920" y="765000"/>
            <a:ext cx="8305920" cy="553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s of Forward R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day, you can “lock in” an interest rate which will apply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between two periods in the fut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.g. between end of year-1 and end of year-2, denoted 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so used in Pricing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 Agreements replaced b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 Rate Agreements , FRA’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ating Rate Notes,  FRN’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est Rate Futures Contra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ating rate receipts, in an interest rate swa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6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6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5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2760" y="1371600"/>
            <a:ext cx="691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s:Spot and Derivative Markets, K.Cuthbertson and D.Nitzs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rkets, Firms and Inves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usiness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1430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25600"/>
            <a:ext cx="38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838080" y="609120"/>
            <a:ext cx="8305920" cy="584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eriod investment horizon - riskless investments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o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Invest your $1 for 2-years at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‘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ot rate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pts at t=2 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Invest $1 for 1-year at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rchase an FRA  to invest between t=1 and t=2 at a quoted rate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pts at t=2 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ransacti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iskl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nce investors will switch their funds (between 1-year, 2-year and the FRA ) until the 3 interest rates are such that the amounts received at t=2, are equal.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812880" y="44280"/>
            <a:ext cx="8026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onship between forward rate and spot rat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0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0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1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/>
          </p:nvPr>
        </p:nvSpPr>
        <p:spPr>
          <a:xfrm>
            <a:off x="885600" y="641520"/>
            <a:ext cx="8258040" cy="58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ng 1 and 2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$1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(1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1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     =  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/ 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, approximately (Let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% p.a. and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10% pa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 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2  (10)  -  9  =  11%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forward rate is derived from current spot rates (yield curv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rate a bank should quot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it can be shown that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market’s best  forecast of what the  “the one-year rate in one-years time” (denoted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ll b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3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6" name=""/>
          <p:cNvSpPr/>
          <p:nvPr/>
        </p:nvSpPr>
        <p:spPr>
          <a:xfrm>
            <a:off x="990720" y="6094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90720" y="65530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88840" y="44280"/>
            <a:ext cx="8026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onship between forward rate and spot ra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773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LF STUDY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gebra of General Calculation of Forward Ra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229600" cy="535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ulate oth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orward rat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from today’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ot rat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pretty ‘intuitive’ since the superscripts and subscripts ‘add up’ to the same amount on each side of the equals sig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  (1 + 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3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    (1 + 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general (there is no need to memorise this!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m,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=  [ n / (n -m)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-  [ m / (n -m)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.g.     f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,3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=  [ 3 / 2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-  [ 1 / 2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7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7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12680" y="222264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Yield Cu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ectations Hypothe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0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78040" y="1440000"/>
            <a:ext cx="0" cy="298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752480" y="4419720"/>
            <a:ext cx="5042160" cy="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62120" y="914400"/>
            <a:ext cx="139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Y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312920" y="252720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320840" y="29955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778040" y="2717640"/>
            <a:ext cx="2328840" cy="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38480" y="2666880"/>
            <a:ext cx="25560" cy="168120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778040" y="3073320"/>
            <a:ext cx="1058760" cy="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819520" y="2971800"/>
            <a:ext cx="17280" cy="143028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70120" y="44355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951360" y="4422600"/>
            <a:ext cx="40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30240" y="2514600"/>
            <a:ext cx="8229240" cy="301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14"/>
                </a:moveTo>
                <a:arcTo wR="10800" hR="10800" stAng="10763815" swAng="5434859"/>
                <a:lnTo>
                  <a:pt x="10800" y="10800"/>
                </a:lnTo>
                <a:close/>
              </a:path>
              <a:path fill="none" w="21600" h="21600">
                <a:moveTo>
                  <a:pt x="1" y="10914"/>
                </a:moveTo>
                <a:arcTo wR="10800" hR="10800" stAng="10763815" swAng="543485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94640" y="4170240"/>
            <a:ext cx="226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ime to mat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25760" y="383364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121440" y="23097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98920" y="442260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486400" y="2666880"/>
            <a:ext cx="25560" cy="168120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676520" y="2436840"/>
            <a:ext cx="3886200" cy="144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12920" y="214632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375920" y="56386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yield curve is usually upward slopin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43840" y="177840"/>
            <a:ext cx="39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gure 5 :YIELD CU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6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6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7720" y="172800"/>
            <a:ext cx="77425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YIELD CUR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012320" y="1828800"/>
            <a:ext cx="8055000" cy="467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hy are long rates of interest often higher than short rates of interest 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can long rates be lower than short rates ?  Yes 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Expectations Hypothes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f we know the shape of the yield curve (ie. All the spot rates) then we can calculate forward rates for all maturit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0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0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2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 Hypothesis (EH): Term Stru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ge: assuming risk neutrality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.( 1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= $1.  (1+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. [    1 +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 1 / 2 ) .  [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+ 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H impl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Long-rat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weighted average of  current (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pec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ture (one-period) short rates 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3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4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ward Sloping Yield Curv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838080" y="764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ing yield curve implies that short rates are  expected to be higher in the future and this is probably because inflation is expected to rise in future year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flation Prediction from the yield cur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the current yield curv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6%,  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%, then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7.0%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real rate = 3%, then  ( from Fisher effect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pec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nual infla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1-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i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7 - 3   =   4%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 Bank of England inflation forecast  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7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7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5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916360" y="2349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O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Yields, Pric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turns and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1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1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838080" y="12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et Returns and Volatility (Annual): Data, 1926-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8080" y="990720"/>
            <a:ext cx="8305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ith. Mean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S.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ocks (S&amp;P500),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mall St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ottom 5th on NYSE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.T Corp Bond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.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8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.T. Gov bond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.6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 T-bills, 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8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latio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6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otes:1)  dividends/coupons reinvested. 2) The geometric mean return would be less than the arithmetic mean return 3) arithmetic mean return is larger the shorter the horizon chosen(eg. 1-year versus 2-year returns etc, - this is because returns are ‘mean reverting’ (or have negative autocorrelation) over longer horizons,( ie. they are not statistically independent) - see elementary stats book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Source Brealey &amp; Myers 6th ed p156-164)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4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4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7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826920" y="1014480"/>
            <a:ext cx="7696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GIVE  AN OUTLINE  OF KEY TOPICS WHICH CAN THEN BE FOLLOWED UP IN CUTHBERTSON AND NITZS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SLIDE IS NOT  DISCUSSED ‘LINE BY LINE’ IN THE LECTUR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VIDE ‘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ASSESSMENT’ SL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QUESTIONS OR ‘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W’ 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O FOLLOW UP OUTSIDE THE LE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0920" y="2523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TIONALE OF S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914400" y="1219320"/>
            <a:ext cx="8001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turn on S&amp;P          =  9.4 %            ( = 13 - 3.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ces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turn on S&amp;P = 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r  =   9%      (appro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often referred to as the 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rket risk premium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cess return per unit of risk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(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r)/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45 (= 9/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often referred to as the 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arpe ratio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urvivorship bias in just using US data?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uce ‘US market risk premium by 1.5%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55640" y="120600"/>
            <a:ext cx="86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set Returns and Volatility (Annual): Data, 1926-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8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8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3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917640" y="4680"/>
            <a:ext cx="76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latility of S&amp;P500 (Annual) US Data, 1930-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16000" y="838080"/>
            <a:ext cx="7113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.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0’s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41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5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7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8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90-97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ource Brealey &amp; Myers 6th ed p156-164)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1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2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9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840960" y="25560"/>
            <a:ext cx="70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K GRADES: FT  19/10/00 (for Oct 17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50840" y="914400"/>
            <a:ext cx="8855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N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QUITY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X(rel to USD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86(135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2(Eur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4(14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8(139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9(Y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7(15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7  (1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( . .) = 52-week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 = average volatility of international equity mk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5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5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5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907360" y="286380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Slides End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8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9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0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83664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SEMINAR SHEETS 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FORE CLASS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AND MUST DO BACKGROUND READING (CUTHBERTSON/NITZSCH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THE SYLLABUS IS EXAMIN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SE YOUR BASIC ‘STATISTICAL CONCEPTS’, NOW ! (E.G. mean, standard deviation, correlation, covariance, elementary probability, expected value, regression + s-errors + t-tests, decision trees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IS A LOT TO DO, BUT MUCH USEFUL ‘VALUE ADDED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755640" cy="6854760"/>
            <a:chOff x="0" y="0"/>
            <a:chExt cx="755640" cy="6854760"/>
          </a:xfrm>
        </p:grpSpPr>
        <p:sp>
          <p:nvSpPr>
            <p:cNvPr id="195" name=""/>
            <p:cNvSpPr/>
            <p:nvPr/>
          </p:nvSpPr>
          <p:spPr>
            <a:xfrm>
              <a:off x="0" y="0"/>
              <a:ext cx="75564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2920" y="163440"/>
              <a:ext cx="105840" cy="6550200"/>
              <a:chOff x="52920" y="163440"/>
              <a:chExt cx="105840" cy="6550200"/>
            </a:xfrm>
          </p:grpSpPr>
          <p:sp>
            <p:nvSpPr>
              <p:cNvPr id="197" name=""/>
              <p:cNvSpPr/>
              <p:nvPr/>
            </p:nvSpPr>
            <p:spPr>
              <a:xfrm>
                <a:off x="52920" y="175428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920" y="198432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2920" y="221148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20" y="244152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920" y="2671920"/>
                <a:ext cx="10584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920" y="289872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920" y="312912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920" y="3359160"/>
                <a:ext cx="10584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920" y="358632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920" y="381636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920" y="4046400"/>
                <a:ext cx="10584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920" y="427212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20" y="450216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920" y="472932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920" y="495936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920" y="518940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920" y="541656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920" y="564660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20" y="587700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20" y="610380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20" y="633420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920" y="656280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920" y="163440"/>
                <a:ext cx="10584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920" y="39060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920" y="620640"/>
                <a:ext cx="10584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920" y="84924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920" y="107640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920" y="130644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920" y="153684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80920" y="2523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TIONALE OF S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21463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Financial Asse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RROWING FU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3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26920" y="6922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hysical) investment projects - have to be financ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of 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xis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assets to more productive uses: ( e.g. ‘Low’ stock price is a signal for another firm, to raise funds for a  takeover by more efficient managers - ‘the market for corporate control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prices/returns reflect the ‘scarcity’ of funds and the financial system is supposed to allocate  “funds” to the most productive/ profitable  ‘physical investments’ - competition for fu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3400" y="4752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NDING AND BORR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6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7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26920" y="69228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nancial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s “funds” between borrowers and len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 some to “spend” before they have earned the “income” and others to defer “spending” (i.e. S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temporal re-allocation” of cash fl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0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0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833400" y="12384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NDING AND BORR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7040" y="15552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YPES OF FINANCIAL ASSET (MARKE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7650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nancial assets differ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of expected pay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of cash flow or final 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holders own the firm and control managers via voting rights over the composition of Board of Dire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t holders (=bonds holders +bank loans) do not ‘own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ut debt holders do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flu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the 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n put the firm into liqu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4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4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9T11:59:54Z</dcterms:created>
  <dc:creator>Alessandro Cozzani</dc:creator>
  <dc:description/>
  <dc:language>en-US</dc:language>
  <cp:lastModifiedBy>Alessandro Cozzani</cp:lastModifiedBy>
  <cp:lastPrinted>2001-09-26T17:57:33Z</cp:lastPrinted>
  <dcterms:modified xsi:type="dcterms:W3CDTF">2002-03-16T11:42:08Z</dcterms:modified>
  <cp:revision>162</cp:revision>
  <dc:subject>Financial Management</dc:subject>
  <dc:title>Creation of financial assets</dc:title>
</cp:coreProperties>
</file>